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.jpeg" ContentType="image/jpeg"/>
  <Override PartName="/ppt/media/image5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113AF-9531-48A9-A3F9-0ACAEFA2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A3EB4-2137-431D-A99D-AE3EDC3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AD4DF-57E3-4248-939E-84B46934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234E5-5C3D-4558-8C91-F1685B14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9FA97-057A-4248-915D-FF58767C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4560-4ABA-4B2F-B9BC-6D71EC4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F269-9CCE-4675-8CC8-945A8316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F8FFB-69C4-41BB-8753-1DE18D4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32FB8-E13F-4C1E-B631-00A8B40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EE7F-63CD-465F-8CBA-A4C0D8E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FD0F-7ED6-4258-8ACF-9839ECBC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67439-CF2D-440C-A589-B5FD2503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F1607-67DC-4FA8-ADFC-07D342B5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3C178-A20B-4D92-A84A-D97AB08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D6641-55AC-46BA-A279-24AD015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BC017-4B3F-43F2-BD65-E5D7AD1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29829-AD2E-451B-8892-3A52413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05F3A-CC98-4FFF-8FEB-009BCB9A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D3782-543C-4D54-8D91-D8F6F28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4DD18-8632-411E-9E78-7C6E630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49B4F-2A5D-4D4A-89F9-673F9AE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516E2-6F2D-4595-905B-911C2E3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AE8D6-9F95-41E6-AEA8-7DB3B865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B96E5-3172-4DA8-8405-F211EBE4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231E-7CC0-4DE4-AB52-C6D4FC06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585-26E5-400C-84A2-D4BDE2C1782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水3 好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1"/>
          <p:cNvPicPr/>
          <p:nvPr/>
        </p:nvPicPr>
        <p:blipFill>
          <a:blip r:embed="rId2"/>
          <a:stretch/>
        </p:blipFill>
        <p:spPr>
          <a:xfrm>
            <a:off x="324000" y="1484280"/>
            <a:ext cx="554328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924360" y="278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柳宗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背景2"/>
          <p:cNvPicPr/>
          <p:nvPr/>
        </p:nvPicPr>
        <p:blipFill>
          <a:blip r:embed="rId1"/>
          <a:stretch/>
        </p:blipFill>
        <p:spPr>
          <a:xfrm>
            <a:off x="0" y="-4680"/>
            <a:ext cx="8319960" cy="6862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疏通字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下列字注音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篁竹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uang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　　 清冽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ie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为坻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hi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     　　为屿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yu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为堪（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kan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    　　佁然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yi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俶尔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hu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    　　翕忽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xi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差互（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i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     　　  寂寥（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iao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　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悄怆（　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huang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    幽邃（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ui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3"/>
          <p:cNvSpPr/>
          <p:nvPr/>
        </p:nvSpPr>
        <p:spPr>
          <a:xfrm>
            <a:off x="1692360" y="765000"/>
            <a:ext cx="395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908000" y="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给下列加点字注音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8360" y="907920"/>
            <a:ext cx="820728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篁竹           卷石底              为坻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嵁         参差披拂            佁然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俶尔         往来翕忽         悄  怆幽邃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755640" y="213372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3203640" y="213372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948360" y="213372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1187280" y="40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843280" y="40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6516720" y="40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55640" y="587700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3924360" y="587700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6084720" y="58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77080" y="58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50920" y="98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huá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627280" y="98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quán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6588000" y="98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hí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900000" y="2421000"/>
            <a:ext cx="100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kān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340000" y="270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ēn cī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6227640" y="27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yĭ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95280" y="4581360"/>
            <a:ext cx="115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hù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3635280" y="4653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xī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292720" y="4581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qiăo chuà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3492360" y="4005360"/>
            <a:ext cx="142920" cy="142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青 树 翠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蔓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(         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5640" y="2924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犬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差互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                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500720" y="170028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203640" y="2781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ū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539640" y="549360"/>
            <a:ext cx="54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33"/>
                </a:solidFill>
                <a:latin typeface="Times New Roman"/>
              </a:rPr>
              <a:t>自学指导</a:t>
            </a:r>
            <a:r>
              <a:rPr b="0" lang="en-US" sz="66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95280" y="2193840"/>
            <a:ext cx="8748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默读课文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借助文下的注释，试着运用精彩的语言翻译段落中的语句。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解释划线词在句子中的意思。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从小丘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西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行百二十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折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蛇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明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可见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其岸势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犬牙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差互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日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下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影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布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石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而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其境过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</a:rPr>
              <a:t>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876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向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343400" y="2438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像北斗星那样 、像长蛇爬行那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41972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或现或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4197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像狗的牙齿那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95680" y="3962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495680" y="4495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照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495680" y="502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随从、跟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495680" y="5562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因为、凄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小丘西行百二十步，隔        ，    水声，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21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佩环，心        。   竹    道，    见小潭，水            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篁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076720" y="10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竹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443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012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听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851280" y="522936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砍倒竹子，开辟出一条道路（走过去），下面看见一个小潭，潭水特别清凉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50920" y="148428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从小土丘向西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百二十步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284720" y="198900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隔着竹林，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了水声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0" y="48690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好像身上带的玉佩、玉环相碰发出的清脆声音，（我的）心情高兴起来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532720" y="404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1619280" y="3141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900000" y="4149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代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指水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2268000" y="3789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84328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84328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砍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70836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78000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738036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020000" y="3789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特别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格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788508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清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8101080" y="400536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清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4932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4932360" y="386064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在下面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3"/>
          <p:cNvPicPr/>
          <p:nvPr/>
        </p:nvPicPr>
        <p:blipFill>
          <a:blip r:embed="rId1"/>
          <a:stretch/>
        </p:blipFill>
        <p:spPr>
          <a:xfrm>
            <a:off x="8577360" y="6273720"/>
            <a:ext cx="56664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图片1"/>
          <p:cNvPicPr/>
          <p:nvPr/>
        </p:nvPicPr>
        <p:blipFill>
          <a:blip r:embed="rId2"/>
          <a:srcRect l="0" t="0" r="0" b="8943"/>
          <a:stretch/>
        </p:blipFill>
        <p:spPr>
          <a:xfrm>
            <a:off x="863640" y="649440"/>
            <a:ext cx="741672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岩。青树翠蔓，        摇     ，                。 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0" y="83664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石       底，   岸，  石底        ，为    ，为    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7650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116000" y="765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268360" y="765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348000" y="76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71636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148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300720" y="83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524720" y="83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8459640" y="836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0" y="306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250920" y="2133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整块石头作为潭底，靠近岸边，有一圈从潭底周围突出水面的石头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6372360" y="21337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为坻、屿、  嵁、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0" y="5300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各种不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形状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124000" y="5516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青葱的树，翠绿的茎蔓，遮盖交结，摇动下垂，参差不齐，随风飘动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40672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4572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络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550872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6372360" y="306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7308720" y="3068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披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0" y="26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完整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140328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作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75564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介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19564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靠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277164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翻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3419640" y="18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连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相当于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4932360" y="1413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露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5867280" y="14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水中高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709308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小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8172360" y="1341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0" y="378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不平的岩石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Oval 39"/>
          <p:cNvSpPr/>
          <p:nvPr/>
        </p:nvSpPr>
        <p:spPr>
          <a:xfrm>
            <a:off x="5148360" y="4437000"/>
            <a:ext cx="1224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796000" y="3645000"/>
            <a:ext cx="712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Oval 41"/>
          <p:cNvSpPr/>
          <p:nvPr/>
        </p:nvSpPr>
        <p:spPr>
          <a:xfrm>
            <a:off x="3780000" y="4149720"/>
            <a:ext cx="122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H="1">
            <a:off x="4500720" y="3573360"/>
            <a:ext cx="358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6516720" y="4005360"/>
            <a:ext cx="863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>
            <a:off x="6877080" y="357336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Text Box 45"/>
          <p:cNvSpPr/>
          <p:nvPr/>
        </p:nvSpPr>
        <p:spPr>
          <a:xfrm>
            <a:off x="7380360" y="3789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随风飘荡的样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3"/>
          <p:cNvPicPr/>
          <p:nvPr/>
        </p:nvPicPr>
        <p:blipFill>
          <a:blip r:embed="rId1"/>
          <a:stretch/>
        </p:blipFill>
        <p:spPr>
          <a:xfrm>
            <a:off x="8577360" y="6273720"/>
            <a:ext cx="566640" cy="584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图片2"/>
          <p:cNvPicPr/>
          <p:nvPr/>
        </p:nvPicPr>
        <p:blipFill>
          <a:blip r:embed="rId2"/>
          <a:stretch/>
        </p:blipFill>
        <p:spPr>
          <a:xfrm>
            <a:off x="858960" y="639720"/>
            <a:ext cx="74260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-210240" y="2637000"/>
            <a:ext cx="1399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发现小石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116000" y="1989000"/>
            <a:ext cx="720720" cy="381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835280" y="1700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124000" y="234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835280" y="2492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2124000" y="31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183528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伐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2195640" y="407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35280" y="429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取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2195640" y="49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83528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2556000" y="2276640"/>
            <a:ext cx="71280" cy="28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2627280" y="508464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 flipV="1">
            <a:off x="2556000" y="2276640"/>
            <a:ext cx="122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2627280" y="350028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3851280" y="191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70836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5813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4500720" y="5084640"/>
            <a:ext cx="64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219640" y="1916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5219640" y="299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怪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5219640" y="45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青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5940360" y="2421000"/>
            <a:ext cx="1295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Line 28"/>
          <p:cNvSpPr/>
          <p:nvPr/>
        </p:nvSpPr>
        <p:spPr>
          <a:xfrm flipV="1">
            <a:off x="5940360" y="342900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Line 29"/>
          <p:cNvSpPr/>
          <p:nvPr/>
        </p:nvSpPr>
        <p:spPr>
          <a:xfrm flipV="1">
            <a:off x="5940360" y="3644640"/>
            <a:ext cx="1152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Oval 30"/>
          <p:cNvSpPr/>
          <p:nvPr/>
        </p:nvSpPr>
        <p:spPr>
          <a:xfrm>
            <a:off x="7164360" y="2852640"/>
            <a:ext cx="1584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幽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24000" y="404640"/>
            <a:ext cx="7020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212400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移步换景      定点特写    景中含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2843280" y="587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闻声          见形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Line 34"/>
          <p:cNvSpPr/>
          <p:nvPr/>
        </p:nvSpPr>
        <p:spPr>
          <a:xfrm>
            <a:off x="4140360" y="6308640"/>
            <a:ext cx="1726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324000" y="134136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记”是古代的一种文体，主要是记载事物，抒发感情，即景抒情，托物言志。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0920" y="3860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潭中鱼   百    头，皆        游无所     。日光       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   石上，       不动；        远逝，往来        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79280" y="508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游者相     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0" y="184464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潭中的鱼大约有一百来条，好像都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空中游动，周围什么也没有似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08472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阳光直照到水底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9528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的影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700360" y="414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呆呆地一动不动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472000" y="40766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又忽然向远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游去，往来很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0" y="6165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像和游人一同欢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187280" y="47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1979640" y="40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3708360" y="47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5796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7524720" y="40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179280" y="9079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副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1619280" y="907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左右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光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3564000" y="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334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3419640" y="141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在空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Text Box 22"/>
          <p:cNvSpPr/>
          <p:nvPr/>
        </p:nvSpPr>
        <p:spPr>
          <a:xfrm>
            <a:off x="5580000" y="98100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依靠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凭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23"/>
          <p:cNvSpPr/>
          <p:nvPr/>
        </p:nvSpPr>
        <p:spPr>
          <a:xfrm>
            <a:off x="6732720" y="9079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向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8101080" y="907920"/>
            <a:ext cx="129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直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53964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17928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散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2050920" y="28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佁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Text Box 28"/>
          <p:cNvSpPr/>
          <p:nvPr/>
        </p:nvSpPr>
        <p:spPr>
          <a:xfrm>
            <a:off x="1619280" y="3500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呆呆的样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Text Box 29"/>
          <p:cNvSpPr/>
          <p:nvPr/>
        </p:nvSpPr>
        <p:spPr>
          <a:xfrm>
            <a:off x="42116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俶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Text Box 30"/>
          <p:cNvSpPr/>
          <p:nvPr/>
        </p:nvSpPr>
        <p:spPr>
          <a:xfrm>
            <a:off x="421164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忽然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7093080" y="285264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翕忽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Text Box 32"/>
          <p:cNvSpPr/>
          <p:nvPr/>
        </p:nvSpPr>
        <p:spPr>
          <a:xfrm>
            <a:off x="5724360" y="3500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轻快敏捷的样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Text Box 33"/>
          <p:cNvSpPr/>
          <p:nvPr/>
        </p:nvSpPr>
        <p:spPr>
          <a:xfrm>
            <a:off x="32400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映在石头上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179280" y="50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0" y="55897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好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226836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1258920" y="5589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逗乐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娱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中景物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二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2124000" y="191628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48436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水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484360" y="35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游鱼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 flipV="1">
            <a:off x="2843280" y="227664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2775600" y="2637000"/>
            <a:ext cx="7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衬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450072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清澄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3708360" y="191628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5580000" y="191628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6443640" y="1557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侧面描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500720" y="3573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动静结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516720" y="4005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6588000" y="3284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融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7596360" y="3645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心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8388360" y="1989000"/>
            <a:ext cx="216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8532720" y="3141360"/>
            <a:ext cx="142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8028000" y="2492280"/>
            <a:ext cx="1116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乐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2124000" y="5013360"/>
            <a:ext cx="460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由景生情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0" y="213372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潭西南    望 ，               ，明灭可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443700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岸势            互，不可知         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0" y="609300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溪岸的形状像犬牙那样交错不齐，不知道它的源泉在哪里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向小石潭的西南方看去，溪流象北斗七星那样曲折，又象蛇爬行那样弯曲，忽明忽暗，忽隐忽现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24000" y="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第三段：写小潭源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2843280" y="476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059280" y="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溪身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13200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岸势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4643280" y="1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曲折蜿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4643280" y="76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参差不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2411280" y="206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780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78800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90000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987640" y="1557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北斗星一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550872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428472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折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5292720" y="21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5867280" y="314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像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428472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曲折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443640" y="549360"/>
            <a:ext cx="576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Line 23"/>
          <p:cNvSpPr/>
          <p:nvPr/>
        </p:nvSpPr>
        <p:spPr>
          <a:xfrm flipV="1">
            <a:off x="6443640" y="836640"/>
            <a:ext cx="57636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7164360" y="40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奇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0" y="443700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其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0" y="5084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47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犬牙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1692360" y="5589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像犬牙那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241128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Line 31"/>
          <p:cNvSpPr/>
          <p:nvPr/>
        </p:nvSpPr>
        <p:spPr>
          <a:xfrm>
            <a:off x="2987640" y="5013360"/>
            <a:ext cx="11527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Oval 32"/>
          <p:cNvSpPr/>
          <p:nvPr/>
        </p:nvSpPr>
        <p:spPr>
          <a:xfrm>
            <a:off x="4140360" y="5084640"/>
            <a:ext cx="194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8172360" y="278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爬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529272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443640" y="530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它的源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Oval 36"/>
          <p:cNvSpPr/>
          <p:nvPr/>
        </p:nvSpPr>
        <p:spPr>
          <a:xfrm>
            <a:off x="250920" y="1557360"/>
            <a:ext cx="2411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象比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9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0" y="5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坐潭上，四面竹树         ，        无人，           骨，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0" y="2492280"/>
            <a:ext cx="88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       境    清，不    久    ，    记            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399564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564000" y="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环绕包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514836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寂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78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寂静空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7020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凄神寒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630072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使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凄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6877080" y="105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心神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7667640" y="981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寒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250920" y="2492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悄怆幽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0" y="3213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忧伤的样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0" y="364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幽静深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340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212400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2484360" y="2492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411280" y="357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3203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3419640" y="32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过于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536400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392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能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464328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停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615636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6372360" y="306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558000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是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694836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之而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5148360" y="3645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代词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指小石潭的情景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709308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顺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Text Box 31"/>
          <p:cNvSpPr/>
          <p:nvPr/>
        </p:nvSpPr>
        <p:spPr>
          <a:xfrm>
            <a:off x="8207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离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0" y="429264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真是太寂静幽深了。由于这地方过于冷清，不能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间地停留，于是就把当时的情景记下来便离去了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Text Box 33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我坐在潭边，四周有竹子和树林围绕着，静悄悄的没有人迹，使人感到心境凄凉，寒气彻骨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4"/>
          <p:cNvSpPr/>
          <p:nvPr/>
        </p:nvSpPr>
        <p:spPr>
          <a:xfrm>
            <a:off x="250920" y="5516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四段：写潭中气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AutoShape 35"/>
          <p:cNvSpPr/>
          <p:nvPr/>
        </p:nvSpPr>
        <p:spPr>
          <a:xfrm>
            <a:off x="2843280" y="577836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3419640" y="5589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气氛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Text Box 37"/>
          <p:cNvSpPr/>
          <p:nvPr/>
        </p:nvSpPr>
        <p:spPr>
          <a:xfrm>
            <a:off x="3419640" y="6278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Text Box 38"/>
          <p:cNvSpPr/>
          <p:nvPr/>
        </p:nvSpPr>
        <p:spPr>
          <a:xfrm>
            <a:off x="471636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Text Box 39"/>
          <p:cNvSpPr/>
          <p:nvPr/>
        </p:nvSpPr>
        <p:spPr>
          <a:xfrm>
            <a:off x="4788000" y="62784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Line 40"/>
          <p:cNvSpPr/>
          <p:nvPr/>
        </p:nvSpPr>
        <p:spPr>
          <a:xfrm>
            <a:off x="5292720" y="5950080"/>
            <a:ext cx="57456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Line 41"/>
          <p:cNvSpPr/>
          <p:nvPr/>
        </p:nvSpPr>
        <p:spPr>
          <a:xfrm flipV="1">
            <a:off x="5292720" y="6308280"/>
            <a:ext cx="5745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Text Box 42"/>
          <p:cNvSpPr/>
          <p:nvPr/>
        </p:nvSpPr>
        <p:spPr>
          <a:xfrm>
            <a:off x="6012000" y="5877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Oval 43"/>
          <p:cNvSpPr/>
          <p:nvPr/>
        </p:nvSpPr>
        <p:spPr>
          <a:xfrm>
            <a:off x="6732720" y="5734080"/>
            <a:ext cx="2411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情于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3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1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25092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者：吴武陵，龚古，  弟宗玄。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者，崔氏二        ：   恕己，曰奉壹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468360" y="242100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同游的人有吴武陵、龚古、我的弟弟宗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25092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跟着来的有姓崔的两个少年，一个叫恕己，一个叫奉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485928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14836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叫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395280" y="3500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跟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5435640" y="126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5508720" y="184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70836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轻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6112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147636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154764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游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826920" y="3500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97164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395280" y="2602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第五段：记录同游者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8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3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可      大约：潭中鱼可百许头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可以，能够：不可久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从      由，自：从小丘西行百二十步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跟随：隶而从者，崔氏二小生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清       清澈：下见小潭，水尤清冽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冷清：以其境过清，不可久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差       长短不一，形容词：参差披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交错，动词：其岸势犬牙互差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以       因为：以其境过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表示“以”前面的成分常是后面动词的状语，可以不译：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卷石底以出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乐       以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为乐：心乐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逗乐，嬉戏：似与游乐者相乐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Picture 5" descr="24cruderabbit32"/>
          <p:cNvPicPr/>
          <p:nvPr/>
        </p:nvPicPr>
        <p:blipFill>
          <a:blip r:embed="rId2"/>
          <a:stretch/>
        </p:blipFill>
        <p:spPr>
          <a:xfrm>
            <a:off x="7467480" y="30492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7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2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7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2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7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2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7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2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2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7" dur="5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2" dur="500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7" dur="500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3"/>
          <p:cNvSpPr/>
          <p:nvPr/>
        </p:nvSpPr>
        <p:spPr>
          <a:xfrm>
            <a:off x="1692360" y="765000"/>
            <a:ext cx="395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627280" y="105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755640" y="647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一词多义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826920" y="1417680"/>
            <a:ext cx="14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全石以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底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790560" y="1536840"/>
            <a:ext cx="71280" cy="663480"/>
          </a:xfrm>
          <a:custGeom>
            <a:avLst/>
            <a:gdLst>
              <a:gd name="textAreaLeft" fmla="*/ 45720 w 71280"/>
              <a:gd name="textAreaRight" fmla="*/ 71640 w 71280"/>
              <a:gd name="textAreaTop" fmla="*/ 17280 h 663480"/>
              <a:gd name="textAreaBottom" fmla="*/ 64620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6000" y="15606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2308320" y="14176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作为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919680" y="194004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成为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5419800" y="13082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潭中鱼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可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百许头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>
            <a:off x="5310360" y="1420920"/>
            <a:ext cx="106200" cy="977760"/>
          </a:xfrm>
          <a:custGeom>
            <a:avLst/>
            <a:gdLst>
              <a:gd name="textAreaLeft" fmla="*/ 68040 w 106200"/>
              <a:gd name="textAreaRight" fmla="*/ 106560 w 106200"/>
              <a:gd name="textAreaTop" fmla="*/ 25200 h 977760"/>
              <a:gd name="textAreaBottom" fmla="*/ 95256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4770360" y="17049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7385040" y="13082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大约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6959520" y="174132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能够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6807240" y="213840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可以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826920" y="1940040"/>
            <a:ext cx="30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坻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屿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嵁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岩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5416560" y="174132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不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可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知其源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416560" y="21384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不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可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久居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216000" y="2620800"/>
            <a:ext cx="20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词类活用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1035000" y="3730680"/>
            <a:ext cx="148752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Arial"/>
              </a:rPr>
              <a:t>名词作状语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747880" y="2743200"/>
            <a:ext cx="26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从小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西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行百二十步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5419800" y="274320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向西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2751120" y="3139920"/>
            <a:ext cx="26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皆若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空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游无所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5078520" y="3139920"/>
            <a:ext cx="11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在空中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2747880" y="41511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斗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蛇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138560" y="393876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像北斗星那样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2744640" y="4727520"/>
            <a:ext cx="23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其岸势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犬牙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差互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861080" y="47275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像狗的牙齿那样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1103400" y="5213520"/>
            <a:ext cx="146988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Arial"/>
              </a:rPr>
              <a:t>动词作名词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2744640" y="521352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如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鸣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珮环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299120" y="521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珮环相碰击发出的声音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138560" y="43308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像蛇爬行那样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1092240" y="5808600"/>
            <a:ext cx="148104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Arial"/>
              </a:rPr>
              <a:t>意动用法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2744640" y="5808600"/>
            <a:ext cx="11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心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乐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Text Box 36"/>
          <p:cNvSpPr/>
          <p:nvPr/>
        </p:nvSpPr>
        <p:spPr>
          <a:xfrm>
            <a:off x="4287960" y="58086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以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为乐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感到快乐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AutoShape 37"/>
          <p:cNvSpPr/>
          <p:nvPr/>
        </p:nvSpPr>
        <p:spPr>
          <a:xfrm>
            <a:off x="2571840" y="2917800"/>
            <a:ext cx="253800" cy="1987560"/>
          </a:xfrm>
          <a:custGeom>
            <a:avLst/>
            <a:gdLst>
              <a:gd name="textAreaLeft" fmla="*/ 162360 w 253800"/>
              <a:gd name="textAreaRight" fmla="*/ 254160 w 253800"/>
              <a:gd name="textAreaTop" fmla="*/ 51840 h 1987560"/>
              <a:gd name="textAreaBottom" fmla="*/ 1935720 h 19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9" name="Text Box 38"/>
          <p:cNvSpPr/>
          <p:nvPr/>
        </p:nvSpPr>
        <p:spPr>
          <a:xfrm>
            <a:off x="2768760" y="3524400"/>
            <a:ext cx="16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潭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西南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而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0" name="Text Box 39"/>
          <p:cNvSpPr/>
          <p:nvPr/>
        </p:nvSpPr>
        <p:spPr>
          <a:xfrm>
            <a:off x="4299120" y="35416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向西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独立思考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0" y="112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是按照什么顺序写的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95280" y="19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游览顺序：发现小石潭──潭中景物──小潭源流──潭中气氛 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0" y="34909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住了小石潭的哪些特点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826920" y="4221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小石潭的特点：幽静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0" y="4859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小石潭的整体感受是什么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826920" y="5805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幽深冷寂，孤凄悲凉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85800" y="152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发现小潭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320040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闻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362320" y="228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隔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4038480" y="228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伐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487692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取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57150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见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2971800" y="685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动词准确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6248520" y="228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移步换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685800" y="1752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景物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2340000" y="141300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2411280" y="126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水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34290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清澄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42670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侧面描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2514600" y="205740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游鱼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42670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动静结合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AutoShape 17"/>
          <p:cNvSpPr/>
          <p:nvPr/>
        </p:nvSpPr>
        <p:spPr>
          <a:xfrm>
            <a:off x="5867280" y="1295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943600" y="1676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写镜头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609480" y="358128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小潭源流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6" name="AutoShape 20"/>
          <p:cNvSpPr/>
          <p:nvPr/>
        </p:nvSpPr>
        <p:spPr>
          <a:xfrm>
            <a:off x="2340000" y="3357720"/>
            <a:ext cx="264960" cy="1290600"/>
          </a:xfrm>
          <a:custGeom>
            <a:avLst/>
            <a:gdLst>
              <a:gd name="textAreaLeft" fmla="*/ 169200 w 264960"/>
              <a:gd name="textAreaRight" fmla="*/ 265320 w 264960"/>
              <a:gd name="textAreaTop" fmla="*/ 33480 h 1290600"/>
              <a:gd name="textAreaBottom" fmla="*/ 1257120 h 12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2743200" y="3200400"/>
            <a:ext cx="13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溪身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388620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曲折蜿蜒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2627280" y="4221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岸势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3851280" y="414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参差不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AutoShape 25"/>
          <p:cNvSpPr/>
          <p:nvPr/>
        </p:nvSpPr>
        <p:spPr>
          <a:xfrm>
            <a:off x="5562720" y="3200400"/>
            <a:ext cx="75960" cy="1371600"/>
          </a:xfrm>
          <a:custGeom>
            <a:avLst/>
            <a:gdLst>
              <a:gd name="textAreaLeft" fmla="*/ 0 w 75960"/>
              <a:gd name="textAreaRight" fmla="*/ 2736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56386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形象比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609480" y="51055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气氛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24382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幽深冷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5486400" y="5105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寓情于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533520" y="6019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记录同游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7" name="AutoShape 31"/>
          <p:cNvSpPr/>
          <p:nvPr/>
        </p:nvSpPr>
        <p:spPr>
          <a:xfrm>
            <a:off x="7924680" y="304920"/>
            <a:ext cx="304920" cy="5790960"/>
          </a:xfrm>
          <a:custGeom>
            <a:avLst/>
            <a:gdLst>
              <a:gd name="textAreaLeft" fmla="*/ 0 w 304920"/>
              <a:gd name="textAreaRight" fmla="*/ 110160 w 30492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7883280" y="533520"/>
            <a:ext cx="103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抒发在寂寞环境中的悲凉凄苦的情感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AutoShape 33"/>
          <p:cNvSpPr/>
          <p:nvPr/>
        </p:nvSpPr>
        <p:spPr>
          <a:xfrm>
            <a:off x="1447920" y="7621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0" name="AutoShape 34"/>
          <p:cNvSpPr/>
          <p:nvPr/>
        </p:nvSpPr>
        <p:spPr>
          <a:xfrm>
            <a:off x="1447920" y="22860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1447920" y="41148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1447920" y="55627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24000" y="26028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问题研究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79280" y="1557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．第四段描写了小石潭中怎样的气氛？反映了作者怎样的心情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611280" y="2924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描写了小石潭幽深冷寂的景色和气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0" y="3789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极力描写小石潭的幽静，甚至浸透到人的心灵里去，把景物跟心情结合起来，写出一种境界。在这种境界里，透露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者贬居生活孤凄悲凉的心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这是作者被排挤、受迫害的身世遭遇的反映，我们可以从中体会到封建社会中不得志文人的痛苦心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1"/>
          <p:cNvSpPr/>
          <p:nvPr/>
        </p:nvSpPr>
        <p:spPr>
          <a:xfrm>
            <a:off x="3564000" y="292428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柳宗元，唐代著名文学家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宋八大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一。他和韩愈并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韩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Picture 16" descr="柳宗元"/>
          <p:cNvPicPr/>
          <p:nvPr/>
        </p:nvPicPr>
        <p:blipFill>
          <a:blip r:embed="rId1"/>
          <a:stretch/>
        </p:blipFill>
        <p:spPr>
          <a:xfrm>
            <a:off x="250920" y="981000"/>
            <a:ext cx="2944800" cy="5410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4788000" y="1557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Times New Roman"/>
                <a:ea typeface="华文行楷"/>
              </a:rPr>
              <a:t>柳宗元简介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文章前面写“心乐之”，后面又写“悄怆幽邃”，一乐一忧似难相容，该如何理解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24000" y="22050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柳宗元参与改革，失败被贬，心中抑郁难平，而寄情山水正是为了摆脱这种心情；所以这种欢乐是暂时的，一经环境的触发，忧伤悲凉的心情又会流露出来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                                ─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寓情于景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5013360"/>
            <a:ext cx="914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描写游鱼动态的句子是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50920" y="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课堂反馈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250920" y="125892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原文填空。（如能默写，就更棒）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0" y="233856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高度概括小石潭的氛围，同时抒发作者政治受挫遭贬后忧伤心情的句子是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386064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描写游鱼静态的句子是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Rectangle 3"/>
          <p:cNvSpPr/>
          <p:nvPr/>
        </p:nvSpPr>
        <p:spPr>
          <a:xfrm>
            <a:off x="1692360" y="765000"/>
            <a:ext cx="395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627280" y="105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826920" y="2852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680120" y="1341360"/>
            <a:ext cx="2833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推荐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“小石潭”：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042920" y="2421000"/>
            <a:ext cx="7416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请你根据小石潭的风景图片，结合课文内容，设计一句旅游景点的广告语，对小石潭的景致作简要概括。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026"/>
          <p:cNvSpPr/>
          <p:nvPr/>
        </p:nvSpPr>
        <p:spPr>
          <a:xfrm>
            <a:off x="762120" y="990720"/>
            <a:ext cx="26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小  结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2" name="Text Box 1027"/>
          <p:cNvSpPr/>
          <p:nvPr/>
        </p:nvSpPr>
        <p:spPr>
          <a:xfrm>
            <a:off x="685800" y="2514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　　本文以生动的笔法描写了小石潭景物的幽美和静穆，抒发了作者贬官失意后的凄清孤寂的心境。语言简练、生动，刻画景物细腻、逼真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66"/>
                    </a:outerShdw>
                  </a:effectLst>
                </p:spPr>
              </p:pic>
            </p:oleObj>
          </a:graphicData>
        </a:graphic>
      </p:graphicFrame>
      <p:sp>
        <p:nvSpPr>
          <p:cNvPr id="545" name="Text Box 3"/>
          <p:cNvSpPr/>
          <p:nvPr/>
        </p:nvSpPr>
        <p:spPr>
          <a:xfrm>
            <a:off x="2627280" y="105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3132000" y="620640"/>
            <a:ext cx="216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3333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ffff66">
                      <a:alpha val="80000"/>
                    </a:srgbClr>
                  </a:outerShdw>
                </a:effectLst>
                <a:latin typeface="楷体_GB2312"/>
              </a:rPr>
              <a:t>作业</a:t>
            </a:r>
            <a:endParaRPr b="1" lang="en-US" sz="6000" spc="1" strike="noStrike">
              <a:ln w="25560">
                <a:solidFill>
                  <a:srgbClr val="3333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ffff66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95280" y="1989000"/>
            <a:ext cx="8424720" cy="1508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你已学过不少描写景物的古代诗文，试着把其中描写山水的名句摘录下来，并选择一两则加以赏析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u=1830735060,3515612415&amp;gp=1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030560" y="1700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柳宗元被贬为永州司马后，贫病交加，老母病故，居处遭火，他满怀忧惧之情，多借山水以排遣。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永州八记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就写于此时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700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柳宗元的山水游记在中国文学史上具有独特的地位。 为人称道的</a:t>
            </a: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永州八记</a:t>
            </a: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是他被贬谪到永州以后写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些作品，展现了一幅幅山水胜景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柳宗元的山水游记把自己的身世遭遇、思想感情融合于自然风景的描绘中，寄寓自己的不幸遭遇，倾注怨愤抑郁的心情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2103840"/>
            <a:ext cx="882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正确流利地朗读课文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正确翻译课文，积累常见的文言实词：清、去、邃等；虚词：以、为等，提高阅读文言文的能力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68360" y="83664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</a:rPr>
              <a:t>自学指导</a:t>
            </a:r>
            <a:r>
              <a:rPr b="0" lang="en-US" sz="60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2205000"/>
            <a:ext cx="7921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听录音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画出生字词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注意句子的节奏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iu11a"/>
          <p:cNvPicPr/>
          <p:nvPr/>
        </p:nvPicPr>
        <p:blipFill>
          <a:blip r:embed="rId1"/>
          <a:stretch/>
        </p:blipFill>
        <p:spPr>
          <a:xfrm>
            <a:off x="1116000" y="404640"/>
            <a:ext cx="6143760" cy="4673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484360" y="5229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小石潭原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背景2"/>
          <p:cNvPicPr/>
          <p:nvPr/>
        </p:nvPicPr>
        <p:blipFill>
          <a:blip r:embed="rId1"/>
          <a:stretch/>
        </p:blipFill>
        <p:spPr>
          <a:xfrm>
            <a:off x="0" y="0"/>
            <a:ext cx="83199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给下列字注音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篁竹（      ） 清洌（      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为坻（      ） 为屿（      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为堪（      ） 佁然（      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俶尔（      ） 翕忽（      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差互（      ） 寂寥（      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悄怆（      ） 幽邃（      ）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5:33:23Z</dcterms:created>
  <dc:creator/>
  <dc:description/>
  <dc:language>en-US</dc:language>
  <cp:lastModifiedBy>ymxiao</cp:lastModifiedBy>
  <dcterms:modified xsi:type="dcterms:W3CDTF">2014-02-12T06:16:05Z</dcterms:modified>
  <cp:revision>55</cp:revision>
  <dc:subject/>
  <dc:title>PowerPoint 演示文稿</dc:title>
</cp:coreProperties>
</file>